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1A7-22FC-4E11-9C8A-73E959A2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1D5-6B97-4DD8-B401-01B4D296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6D4-B6EC-44EB-93DB-C20A0BB7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39D-8069-42A9-BF04-199E4030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106-1831-47D3-A54F-455F3DDA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967-1FAC-4FE7-A6AC-A9E91447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09B-347E-4BE5-B102-3E9AB71E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B7A-C7B6-433F-8484-612530F1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70A-C037-4387-A33C-A0405BC1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27D-4CFA-42E4-950F-10309A1B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5D4-F4DB-49D3-AECD-35DBF03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3D4-2DA8-4B09-A84A-05FE37C0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AE7A-D047-4756-8CD0-F4511BE3C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KT7xJ0tjB4A&amp;NR=1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d-hEkyYUXSo&amp;feature=related" TargetMode="External"/><Relationship Id="rId2" Type="http://schemas.openxmlformats.org/officeDocument/2006/relationships/hyperlink" Target="http://ca.youtube.com/watch?v=x4WEqWlp29U&amp;feature=related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antum Mechanics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700280"/>
            <a:ext cx="82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senberg Uncertainty Princi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.youtube.com/watch?v=KT7xJ0tjB4A&amp;N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Mechanics in Hist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a.youtube.com/watch?v=qzZDlXji0e0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Numbers and the 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5MMWpeJ5d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” Orbitals Shapes a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814400"/>
            <a:ext cx="72864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62040" y="219240"/>
            <a:ext cx="601992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806436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antum Numbers and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1400040"/>
            <a:ext cx="79437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ends and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700280"/>
            <a:ext cx="820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ment of the Periodic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a.youtube.com/watch?v=AkoepZtvaXg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Radi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.youtube.com/watch?v=d-hEkyYUXSo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ization Ener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.youtube.com/watch?v=x4WEqWlp29U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Affin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a.youtube.com/watch?v=dU5-AvyEgl0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3:36:31Z</dcterms:created>
  <dc:creator>FradkiL</dc:creator>
  <dc:description/>
  <dc:language>en-US</dc:language>
  <cp:lastModifiedBy>FradkiL</cp:lastModifiedBy>
  <dcterms:modified xsi:type="dcterms:W3CDTF">2009-02-09T20:51:06Z</dcterms:modified>
  <cp:revision>5</cp:revision>
  <dc:subject/>
  <dc:title>Slide 1</dc:title>
</cp:coreProperties>
</file>